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whoosh.wav" ContentType="audio/x-wav"/>
  <Override PartName="/ppt/media/laser.wav" ContentType="audio/x-wav"/>
  <Override PartName="/ppt/media/image4.png" ContentType="image/png"/>
  <Override PartName="/ppt/media/chimes.wav" ContentType="audio/x-wav"/>
  <Override PartName="/ppt/media/wind.wav" ContentType="audio/x-wav"/>
  <Override PartName="/ppt/media/image16.jpeg" ContentType="image/jpeg"/>
  <Override PartName="/ppt/media/image6.jpeg" ContentType="image/jpeg"/>
  <Override PartName="/ppt/media/image5.wmf" ContentType="image/x-wmf"/>
  <Override PartName="/ppt/media/image7.jpeg" ContentType="image/jpeg"/>
  <Override PartName="/ppt/media/image3.png" ContentType="image/png"/>
  <Override PartName="/ppt/media/image17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click.wav" ContentType="audio/x-wav"/>
  <Override PartName="/ppt/media/image14.jpeg" ContentType="image/jpeg"/>
  <Override PartName="/ppt/media/image2.png" ContentType="image/png"/>
  <Override PartName="/ppt/media/image13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B9A88-9DAC-400E-9FAD-CC0D1ACB07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4DDEA-048D-4807-AA2F-695B75566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40F6A-D180-4286-8662-C6C6CF8E1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FECFA-F7E4-4051-A29C-D11F6137AA0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BDE2C4-2D1A-4E5F-995B-FDE6E15949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3A54AB-8977-4FCB-98C2-59DA05E96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270B54-0B1B-4A45-B519-FD9B6DCD4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F1619B-003C-4BE4-8A92-A9EBD9990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6C12FF-C5DA-4322-A460-36623D109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77271C-D85C-400F-B250-3B9F94786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9DCEB0-0045-4D39-893B-5F82F8952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E4CEC-BA4D-4EB4-83BD-E34D3A619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320432-8CF9-4751-A558-8CBA0ACDE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C24C96-B85B-460B-A97B-F1488A895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0C148C-4E05-48B0-91BC-B1A04B629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36809C-8EA7-4176-A331-688AB74A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18149C-0A47-4D8A-8390-BBE847BBC4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6631E-E84A-4784-A14C-49D27B31FF1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F11AE-7699-4F92-B8C3-28B0222F6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FD66F-3EE7-4435-9818-066DE363B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0718D-99D8-4D9A-BED5-708EF63DD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72BEE-C2DA-4007-88F2-8F474C31A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FAE15-E63E-4D9A-A9E9-A40DE2B1A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BE33C-C507-4057-B2EC-F0DF51DF0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9AD46-8CA9-4066-A942-D18DEFA06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E064E-99B2-4999-A929-03BE06DBB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38435-C3C6-4C54-A7A3-7D34B9E42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770CA-A888-487A-82B3-5B959B15C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36B1E-3BBE-4E24-A569-D568ADB86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5C511-8FCE-425A-A46D-85E4A9A064D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E4A363-0A07-4D27-81E2-D0FA2EEE2FC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0B4C62-F553-4DAE-8905-4D08B9480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D597AB-F697-4028-8821-ED4EB2AAA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BA255-C68A-4014-910E-9BB0357DD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BB8B8E-84C2-4D0B-9924-DFE379D55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F12204-550A-46E1-9BB6-1D35269D5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F8AE4F-F12B-4D04-94F2-6BD103158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A7A8FC-9948-49E0-9EC4-01331A02A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724720-3C97-499B-9456-9289DCA05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07B6B6-8325-4721-83C5-96E27548B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C5E9D0-7434-4B95-8309-A6768D0AD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9E8840-C524-458D-9685-8DCCB236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4B4A22-C53B-40C8-9904-ACD21493057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E8763A-025A-42BF-88BD-D352C2B4DB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8C9D2-41FB-4B5D-8DA0-D3D842661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91C642-F536-4BD6-A342-D9DB9A808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DD1F23-2539-470A-9E46-961B194BE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D7FD28-F1E8-4025-9745-A956C1CAB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C4DB79-D678-401A-8E3A-84E50DDAC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22E08A-6A51-4FDB-843F-ABF9D72B5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4052AE-EBF2-4C4A-927D-5C1EEBF36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5B61E5-CFAC-4335-BDD7-4B3FF9E01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7E5FBB-1081-4F25-8F96-27BAC3B5A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3CE3C8-F458-48D0-8D3E-BC864033F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41CD2A-11B7-4748-8C7A-73AB5E598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F592B-825C-4F34-84F6-8E8D77F26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9D376D-17C3-428C-9F0B-959BA07EFB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3A5B3-6FDE-46C3-B539-5F4D3FE062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08D85-4C41-4356-97A7-9FEDEADD1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9F21C-5684-4630-AB0C-4CCF01844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D64D8-9447-4A7A-A57C-F0791206B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B6DA3-B710-41ED-A47A-8DD8C3207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20F85-CF4A-4A4F-932A-0A650E830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DB4EE-9975-4C70-B1DF-06E0CFB0A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C028A-EC12-4A8D-B4AC-1B8D5DCFE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3F41D-095C-41E4-86C1-515D980D7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C8F3F-DD66-42A9-BF37-3876729CC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9455E-E826-4F83-8DA0-7C972A1F2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53165-C0AE-430A-A9C2-AE9EA56B3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74250-055F-444C-B32F-B86ABD6BAE3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F4875E-F62B-4DA6-8852-8B97FB58F7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93937B-E2D5-4593-820D-0AA41F07E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2B8992-16FD-43D7-B155-654C482BF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C8AFEA-1FC1-4B7E-BCD0-3CBA65A04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7CDBF4-282C-4970-9D9B-52527442B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7DCA13-660E-4E76-9FD1-7EFE16859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251BFF-91C2-416E-92F9-DFE036373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506CB-D344-464C-A5BC-94C1DB560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01BBA6-CBF3-4990-9413-46923B7B2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C7F1DE-4E6C-460A-9FC8-6055F2F73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ECD3E1-F75A-414C-AFBF-A7C374E93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739698-319F-4FF5-AF88-92071F574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CD0612-6369-4966-B62C-B98DE44228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7082D-6843-4935-A836-A461799D1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165240" y="1036800"/>
            <a:ext cx="1168200" cy="1168200"/>
            <a:chOff x="165240" y="1036800"/>
            <a:chExt cx="1168200" cy="1168200"/>
          </a:xfrm>
        </p:grpSpPr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40000">
              <a:off x="348840" y="1216080"/>
              <a:ext cx="79380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4A2B03D-1645-4577-86E4-445237817C1D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65240" y="1036800"/>
            <a:ext cx="1168200" cy="1168200"/>
            <a:chOff x="165240" y="1036800"/>
            <a:chExt cx="1168200" cy="1168200"/>
          </a:xfrm>
        </p:grpSpPr>
        <p:pic>
          <p:nvPicPr>
            <p:cNvPr id="51" name="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40000">
              <a:off x="348840" y="1216080"/>
              <a:ext cx="79380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914400" y="1407960"/>
            <a:ext cx="230040" cy="223920"/>
            <a:chOff x="914400" y="1407960"/>
            <a:chExt cx="230040" cy="223920"/>
          </a:xfrm>
        </p:grpSpPr>
        <p:pic>
          <p:nvPicPr>
            <p:cNvPr id="56" name="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0040" cy="2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760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3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4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16696F-E10E-4CC1-9150-115898E2BC5A}" type="slidenum">
              <a:rPr b="0" lang="en-US" sz="1200" spc="-1" strike="noStrike">
                <a:solidFill>
                  <a:srgbClr val="b5a788"/>
                </a:solidFill>
                <a:latin typeface="Gill Sans MT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163600" y="2809800"/>
            <a:ext cx="230400" cy="223920"/>
            <a:chOff x="2163600" y="2809800"/>
            <a:chExt cx="230400" cy="223920"/>
          </a:xfrm>
        </p:grpSpPr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0400" cy="2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580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5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35FCBB-0082-413D-851A-9574F6C27327}" type="slidenum">
              <a:rPr b="0" lang="en-US" sz="1200" spc="-1" strike="noStrike">
                <a:solidFill>
                  <a:srgbClr val="b5a788"/>
                </a:solidFill>
                <a:latin typeface="Gill Sans MT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8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33617F-8AE4-475A-B073-4E21F3DEBAC5}" type="slidenum">
              <a:rPr b="0" lang="en-US" sz="1200" spc="-1" strike="noStrike">
                <a:solidFill>
                  <a:srgbClr val="b5a788"/>
                </a:solidFill>
                <a:latin typeface="Gill Sans MT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9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sldNum" idx="10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791A6F-1682-4B25-B79D-DF8EF9B50369}" type="slidenum">
              <a:rPr b="0" lang="en-US" sz="1200" spc="-1" strike="noStrike">
                <a:solidFill>
                  <a:srgbClr val="b5a788"/>
                </a:solidFill>
                <a:latin typeface="Gill Sans MT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1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D62DF1-B606-4A04-8475-9C9C2E24C69C}" type="slidenum">
              <a:rPr b="0" lang="en-US" sz="1200" spc="-1" strike="noStrike">
                <a:solidFill>
                  <a:srgbClr val="b5a788"/>
                </a:solidFill>
                <a:latin typeface="Gill Sans MT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"/>
          <p:cNvGrpSpPr/>
          <p:nvPr/>
        </p:nvGrpSpPr>
        <p:grpSpPr>
          <a:xfrm>
            <a:off x="646200" y="969840"/>
            <a:ext cx="4802040" cy="4800600"/>
            <a:chOff x="646200" y="969840"/>
            <a:chExt cx="4802040" cy="4800600"/>
          </a:xfrm>
        </p:grpSpPr>
        <p:pic>
          <p:nvPicPr>
            <p:cNvPr id="273" name="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2040" cy="480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0200" cy="457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 rot="19440000">
            <a:off x="39672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153753" dir="2700000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 rot="2100000">
            <a:off x="5003640" y="938160"/>
            <a:ext cx="64944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153753" dir="2700000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sldNum" idx="14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287111-2FC6-4FF2-ADE0-7C0BE027F536}" type="slidenum">
              <a:rPr b="0" lang="en-US" sz="1200" spc="-1" strike="noStrike">
                <a:solidFill>
                  <a:srgbClr val="b5a788"/>
                </a:solidFill>
                <a:latin typeface="Gill Sans MT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1371600" y="304920"/>
            <a:ext cx="7407360" cy="14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Persuasion Is All Around You!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447920" y="3048120"/>
            <a:ext cx="7407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"/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20e04"/>
                </a:solidFill>
                <a:latin typeface="Gill Sans MT"/>
              </a:rPr>
              <a:t>“</a:t>
            </a:r>
            <a:r>
              <a:rPr b="0" lang="en-US" sz="3200" spc="-1" strike="noStrike">
                <a:solidFill>
                  <a:srgbClr val="320e04"/>
                </a:solidFill>
                <a:latin typeface="Gill Sans MT"/>
              </a:rPr>
              <a:t>Can You Hear Me Now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5943600" y="1828800"/>
            <a:ext cx="2971800" cy="253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Expert opinion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37160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5040" indent="-280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xperts approve this product, so you should use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 out of five dentists recommend sugarless gum for their patients who chew gum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4267080" y="3886200"/>
            <a:ext cx="2895840" cy="225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dur="indefinite" fill="hold">
                      <p:stCondLst>
                        <p:cond delay="indefinite"/>
                      </p:stCondLst>
                      <p:childTnLst>
                        <p:par>
                          <p:cTn id="2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dur="indefinite" fill="hold">
                      <p:stCondLst>
                        <p:cond delay="indefinite"/>
                      </p:stCondLst>
                      <p:childTnLst>
                        <p:par>
                          <p:cTn id="2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dur="indefinite" fill="hold">
                      <p:stCondLst>
                        <p:cond delay="indefinite"/>
                      </p:stCondLst>
                      <p:childTnLst>
                        <p:par>
                          <p:cTn id="2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dur="indefinite" fill="hold">
                      <p:stCondLst>
                        <p:cond delay="indefinite"/>
                      </p:stCondLst>
                      <p:childTnLst>
                        <p:par>
                          <p:cTn id="2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3" name="chimes.wav"/>
                                  </p:tgtEl>
                                </p:cMediaNode>
                              </p:audio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Quick review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log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pet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andwag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estimoni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motional App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xpert Opi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dur="indefinite" fill="hold">
                      <p:stCondLst>
                        <p:cond delay="indefinite"/>
                      </p:stCondLst>
                      <p:childTnLst>
                        <p:par>
                          <p:cTn id="2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dur="indefinite" fill="hold">
                      <p:stCondLst>
                        <p:cond delay="indefinite"/>
                      </p:stCondLst>
                      <p:childTnLst>
                        <p:par>
                          <p:cTn id="2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dur="indefinite" fill="hold">
                      <p:stCondLst>
                        <p:cond delay="indefinite"/>
                      </p:stCondLst>
                      <p:childTnLst>
                        <p:par>
                          <p:cTn id="2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dur="indefinite" fill="hold">
                      <p:stCondLst>
                        <p:cond delay="indefinite"/>
                      </p:stCondLst>
                      <p:childTnLst>
                        <p:par>
                          <p:cTn id="2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dur="indefinite" fill="hold">
                      <p:stCondLst>
                        <p:cond delay="indefinite"/>
                      </p:stCondLst>
                      <p:childTnLst>
                        <p:par>
                          <p:cTn id="2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dur="indefinite" fill="hold">
                      <p:stCondLst>
                        <p:cond delay="indefinite"/>
                      </p:stCondLst>
                      <p:childTnLst>
                        <p:par>
                          <p:cTn id="2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dur="indefinite" fill="hold">
                      <p:stCondLst>
                        <p:cond delay="indefinite"/>
                      </p:stCondLst>
                      <p:childTnLst>
                        <p:par>
                          <p:cTn id="2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Audience Awarenes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5040" indent="-280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dvertisers know how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arget their audi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se appropriate persuasive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dur="indefinite" fill="hold">
                      <p:stCondLst>
                        <p:cond delay="indefinite"/>
                      </p:stCondLst>
                      <p:childTnLst>
                        <p:par>
                          <p:cTn id="2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dur="indefinite" fill="hold">
                      <p:stCondLst>
                        <p:cond delay="indefinite"/>
                      </p:stCondLst>
                      <p:childTnLst>
                        <p:par>
                          <p:cTn id="2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dur="indefinite" fill="hold">
                      <p:stCondLst>
                        <p:cond delay="indefinite"/>
                      </p:stCondLst>
                      <p:childTnLst>
                        <p:par>
                          <p:cTn id="2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dur="indefinite" fill="hold">
                      <p:stCondLst>
                        <p:cond delay="indefinite"/>
                      </p:stCondLst>
                      <p:childTnLst>
                        <p:par>
                          <p:cTn id="2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Who’s the audience?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2971800" y="1752480"/>
            <a:ext cx="4422600" cy="312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dur="indefinite" fill="hold">
                      <p:stCondLst>
                        <p:cond delay="indefinite"/>
                      </p:stCondLst>
                      <p:childTnLst>
                        <p:par>
                          <p:cTn id="2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dur="indefinite" fill="hold">
                      <p:stCondLst>
                        <p:cond delay="indefinite"/>
                      </p:stCondLst>
                      <p:childTnLst>
                        <p:par>
                          <p:cTn id="2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3" name="click.wav"/>
                                  </p:tgtEl>
                                </p:cMediaNode>
                              </p:audio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2"/>
          <a:stretch/>
        </p:blipFill>
        <p:spPr>
          <a:xfrm>
            <a:off x="2590920" y="2286000"/>
            <a:ext cx="3517920" cy="27432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6553080" y="1600200"/>
            <a:ext cx="1905120" cy="1143000"/>
          </a:xfrm>
          <a:prstGeom prst="wedgeRoundRectCallout">
            <a:avLst>
              <a:gd name="adj1" fmla="val -75814"/>
              <a:gd name="adj2" fmla="val 93046"/>
              <a:gd name="adj3" fmla="val 16667"/>
            </a:avLst>
          </a:prstGeom>
          <a:solidFill>
            <a:srgbClr val="3891a7"/>
          </a:solidFill>
          <a:ln cap="sq"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Audie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dur="indefinite" fill="hold">
                      <p:stCondLst>
                        <p:cond delay="indefinite"/>
                      </p:stCondLst>
                      <p:childTnLst>
                        <p:par>
                          <p:cTn id="3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3" name="chimes.wav"/>
                                  </p:tgtEl>
                                </p:cMediaNode>
                              </p:audio>
                            </p:childTnLst>
                          </p:cTn>
                        </p:par>
                      </p:childTnLst>
                    </p:cTn>
                  </p:par>
                  <p:par>
                    <p:cTn id="310" dur="indefinite" fill="hold">
                      <p:stCondLst>
                        <p:cond delay="indefinite"/>
                      </p:stCondLst>
                      <p:childTnLst>
                        <p:par>
                          <p:cTn id="3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4" name="chimes.wav"/>
                                  </p:tgtEl>
                                </p:cMediaNode>
                              </p:audio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3352680" y="1600200"/>
            <a:ext cx="2895840" cy="441324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6553080" y="1600200"/>
            <a:ext cx="1905120" cy="1143000"/>
          </a:xfrm>
          <a:prstGeom prst="wedgeRoundRectCallout">
            <a:avLst>
              <a:gd name="adj1" fmla="val -75814"/>
              <a:gd name="adj2" fmla="val 93046"/>
              <a:gd name="adj3" fmla="val 16667"/>
            </a:avLst>
          </a:prstGeom>
          <a:solidFill>
            <a:srgbClr val="3891a7"/>
          </a:solidFill>
          <a:ln cap="sq"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Audie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523880" y="2743200"/>
            <a:ext cx="1905120" cy="1066680"/>
          </a:xfrm>
          <a:prstGeom prst="wedgeRoundRectCallout">
            <a:avLst>
              <a:gd name="adj1" fmla="val 60328"/>
              <a:gd name="adj2" fmla="val 119537"/>
              <a:gd name="adj3" fmla="val 16667"/>
            </a:avLst>
          </a:prstGeom>
          <a:solidFill>
            <a:srgbClr val="3891a7"/>
          </a:solidFill>
          <a:ln cap="sq"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Purpo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858000" y="3886200"/>
            <a:ext cx="1905120" cy="1143000"/>
          </a:xfrm>
          <a:prstGeom prst="wedgeRoundRectCallout">
            <a:avLst>
              <a:gd name="adj1" fmla="val -101995"/>
              <a:gd name="adj2" fmla="val -7319"/>
              <a:gd name="adj3" fmla="val 16667"/>
            </a:avLst>
          </a:prstGeom>
          <a:solidFill>
            <a:srgbClr val="3891a7"/>
          </a:solidFill>
          <a:ln cap="sq"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Persuasive techniqu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dur="indefinite" fill="hold">
                      <p:stCondLst>
                        <p:cond delay="indefinite"/>
                      </p:stCondLst>
                      <p:childTnLst>
                        <p:par>
                          <p:cTn id="3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dur="indefinite" fill="hold">
                      <p:stCondLst>
                        <p:cond delay="indefinite"/>
                      </p:stCondLst>
                      <p:childTnLst>
                        <p:par>
                          <p:cTn id="3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3" name="chimes.wav"/>
                                  </p:tgtEl>
                                </p:cMediaNode>
                              </p:audio>
                            </p:childTnLst>
                          </p:cTn>
                        </p:par>
                      </p:childTnLst>
                    </p:cTn>
                  </p:par>
                  <p:par>
                    <p:cTn id="329" dur="indefinite" fill="hold">
                      <p:stCondLst>
                        <p:cond delay="indefinite"/>
                      </p:stCondLst>
                      <p:childTnLst>
                        <p:par>
                          <p:cTn id="3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4" name="chimes.wav"/>
                                  </p:tgtEl>
                                </p:cMediaNode>
                              </p:audio>
                            </p:childTnLst>
                          </p:cTn>
                        </p:par>
                      </p:childTnLst>
                    </p:cTn>
                  </p:par>
                  <p:par>
                    <p:cTn id="335" dur="indefinite" fill="hold">
                      <p:stCondLst>
                        <p:cond delay="indefinite"/>
                      </p:stCondLst>
                      <p:childTnLst>
                        <p:par>
                          <p:cTn id="3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5" name="chimes.wav"/>
                                  </p:tgtEl>
                                </p:cMediaNode>
                              </p:audio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" descr=""/>
          <p:cNvPicPr/>
          <p:nvPr/>
        </p:nvPicPr>
        <p:blipFill>
          <a:blip r:embed="rId2"/>
          <a:stretch/>
        </p:blipFill>
        <p:spPr>
          <a:xfrm>
            <a:off x="3306600" y="1447920"/>
            <a:ext cx="3756240" cy="480060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7010280" y="380880"/>
            <a:ext cx="1905120" cy="1143000"/>
          </a:xfrm>
          <a:prstGeom prst="wedgeRoundRectCallout">
            <a:avLst>
              <a:gd name="adj1" fmla="val -75814"/>
              <a:gd name="adj2" fmla="val 93046"/>
              <a:gd name="adj3" fmla="val 16667"/>
            </a:avLst>
          </a:prstGeom>
          <a:solidFill>
            <a:srgbClr val="3891a7"/>
          </a:solidFill>
          <a:ln cap="sq"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Audie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295280" y="990720"/>
            <a:ext cx="1905120" cy="1143000"/>
          </a:xfrm>
          <a:prstGeom prst="wedgeRoundRectCallout">
            <a:avLst>
              <a:gd name="adj1" fmla="val 47240"/>
              <a:gd name="adj2" fmla="val 129407"/>
              <a:gd name="adj3" fmla="val 16667"/>
            </a:avLst>
          </a:prstGeom>
          <a:solidFill>
            <a:srgbClr val="3891a7"/>
          </a:solidFill>
          <a:ln cap="sq"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Purpo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10280" y="3124080"/>
            <a:ext cx="1905120" cy="1143000"/>
          </a:xfrm>
          <a:prstGeom prst="wedgeRoundRectCallout">
            <a:avLst>
              <a:gd name="adj1" fmla="val -96759"/>
              <a:gd name="adj2" fmla="val -43680"/>
              <a:gd name="adj3" fmla="val 16667"/>
            </a:avLst>
          </a:prstGeom>
          <a:solidFill>
            <a:srgbClr val="3891a7"/>
          </a:solidFill>
          <a:ln cap="sq"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Persuasive techniqu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dur="indefinite" fill="hold">
                      <p:stCondLst>
                        <p:cond delay="indefinite"/>
                      </p:stCondLst>
                      <p:childTnLst>
                        <p:par>
                          <p:cTn id="3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dur="indefinite" fill="hold">
                      <p:stCondLst>
                        <p:cond delay="indefinite"/>
                      </p:stCondLst>
                      <p:childTnLst>
                        <p:par>
                          <p:cTn id="3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3" name="chimes.wav"/>
                                  </p:tgtEl>
                                </p:cMediaNode>
                              </p:audio>
                            </p:childTnLst>
                          </p:cTn>
                        </p:par>
                      </p:childTnLst>
                    </p:cTn>
                  </p:par>
                  <p:par>
                    <p:cTn id="354" dur="indefinite" fill="hold">
                      <p:stCondLst>
                        <p:cond delay="indefinite"/>
                      </p:stCondLst>
                      <p:childTnLst>
                        <p:par>
                          <p:cTn id="3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4" name="chimes.wav"/>
                                  </p:tgtEl>
                                </p:cMediaNode>
                              </p:audio>
                            </p:childTnLst>
                          </p:cTn>
                        </p:par>
                      </p:childTnLst>
                    </p:cTn>
                  </p:par>
                  <p:par>
                    <p:cTn id="360" dur="indefinite" fill="hold">
                      <p:stCondLst>
                        <p:cond delay="indefinite"/>
                      </p:stCondLst>
                      <p:childTnLst>
                        <p:par>
                          <p:cTn id="3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5" name="chimes.wav"/>
                                  </p:tgtEl>
                                </p:cMediaNode>
                              </p:audio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2819520" y="2133720"/>
            <a:ext cx="3843360" cy="365760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6553080" y="1600200"/>
            <a:ext cx="1905120" cy="1143000"/>
          </a:xfrm>
          <a:prstGeom prst="wedgeRoundRectCallout">
            <a:avLst>
              <a:gd name="adj1" fmla="val -75814"/>
              <a:gd name="adj2" fmla="val 93046"/>
              <a:gd name="adj3" fmla="val 16667"/>
            </a:avLst>
          </a:prstGeom>
          <a:solidFill>
            <a:srgbClr val="3891a7"/>
          </a:solidFill>
          <a:ln cap="sq"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Audie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dur="indefinite" fill="hold">
                      <p:stCondLst>
                        <p:cond delay="indefinite"/>
                      </p:stCondLst>
                      <p:childTnLst>
                        <p:par>
                          <p:cTn id="3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dur="indefinite" fill="hold">
                      <p:stCondLst>
                        <p:cond delay="indefinite"/>
                      </p:stCondLst>
                      <p:childTnLst>
                        <p:par>
                          <p:cTn id="3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3" name="chimes.wav"/>
                                  </p:tgtEl>
                                </p:cMediaNode>
                              </p:audio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3124080" y="1981080"/>
            <a:ext cx="3429000" cy="444816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6172200" y="914400"/>
            <a:ext cx="1905120" cy="1143000"/>
          </a:xfrm>
          <a:prstGeom prst="wedgeRoundRectCallout">
            <a:avLst>
              <a:gd name="adj1" fmla="val -75814"/>
              <a:gd name="adj2" fmla="val 93046"/>
              <a:gd name="adj3" fmla="val 16667"/>
            </a:avLst>
          </a:prstGeom>
          <a:solidFill>
            <a:srgbClr val="3891a7"/>
          </a:solidFill>
          <a:ln cap="sq"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Audie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705720" y="3733920"/>
            <a:ext cx="1904760" cy="1143000"/>
          </a:xfrm>
          <a:prstGeom prst="wedgeRoundRectCallout">
            <a:avLst>
              <a:gd name="adj1" fmla="val -78435"/>
              <a:gd name="adj2" fmla="val 36319"/>
              <a:gd name="adj3" fmla="val 16667"/>
            </a:avLst>
          </a:prstGeom>
          <a:solidFill>
            <a:srgbClr val="3891a7"/>
          </a:solidFill>
          <a:ln cap="sq"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Purpo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dur="indefinite" fill="hold">
                      <p:stCondLst>
                        <p:cond delay="indefinite"/>
                      </p:stCondLst>
                      <p:childTnLst>
                        <p:par>
                          <p:cTn id="3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dur="indefinite" fill="hold">
                      <p:stCondLst>
                        <p:cond delay="indefinite"/>
                      </p:stCondLst>
                      <p:childTnLst>
                        <p:par>
                          <p:cTn id="3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3" name="chimes.wav"/>
                                  </p:tgtEl>
                                </p:cMediaNode>
                              </p:audio>
                            </p:childTnLst>
                          </p:cTn>
                        </p:par>
                      </p:childTnLst>
                    </p:cTn>
                  </p:par>
                  <p:par>
                    <p:cTn id="392" dur="indefinite" fill="hold">
                      <p:stCondLst>
                        <p:cond delay="indefinite"/>
                      </p:stCondLst>
                      <p:childTnLst>
                        <p:par>
                          <p:cTn id="3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4" name="chimes.wav"/>
                                  </p:tgtEl>
                                </p:cMediaNode>
                              </p:audio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" descr=""/>
          <p:cNvPicPr/>
          <p:nvPr/>
        </p:nvPicPr>
        <p:blipFill>
          <a:blip r:embed="rId2"/>
          <a:stretch/>
        </p:blipFill>
        <p:spPr>
          <a:xfrm>
            <a:off x="3429000" y="1905120"/>
            <a:ext cx="3200400" cy="448920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6858000" y="1143000"/>
            <a:ext cx="1905120" cy="1143000"/>
          </a:xfrm>
          <a:prstGeom prst="wedgeRoundRectCallout">
            <a:avLst>
              <a:gd name="adj1" fmla="val -75814"/>
              <a:gd name="adj2" fmla="val 93046"/>
              <a:gd name="adj3" fmla="val 16667"/>
            </a:avLst>
          </a:prstGeom>
          <a:solidFill>
            <a:srgbClr val="3891a7"/>
          </a:solidFill>
          <a:ln cap="sq"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Audie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447920" y="1828800"/>
            <a:ext cx="1904760" cy="1143000"/>
          </a:xfrm>
          <a:prstGeom prst="wedgeRoundRectCallout">
            <a:avLst>
              <a:gd name="adj1" fmla="val 43750"/>
              <a:gd name="adj2" fmla="val 168680"/>
              <a:gd name="adj3" fmla="val 16667"/>
            </a:avLst>
          </a:prstGeom>
          <a:solidFill>
            <a:srgbClr val="3891a7"/>
          </a:solidFill>
          <a:ln cap="sq"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Purpo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dur="indefinite" fill="hold">
                      <p:stCondLst>
                        <p:cond delay="indefinite"/>
                      </p:stCondLst>
                      <p:childTnLst>
                        <p:par>
                          <p:cTn id="4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dur="indefinite" fill="hold">
                      <p:stCondLst>
                        <p:cond delay="indefinite"/>
                      </p:stCondLst>
                      <p:childTnLst>
                        <p:par>
                          <p:cTn id="4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3" name="chimes.wav"/>
                                  </p:tgtEl>
                                </p:cMediaNode>
                              </p:audio>
                            </p:childTnLst>
                          </p:cTn>
                        </p:par>
                      </p:childTnLst>
                    </p:cTn>
                  </p:par>
                  <p:par>
                    <p:cTn id="411" dur="indefinite" fill="hold">
                      <p:stCondLst>
                        <p:cond delay="indefinite"/>
                      </p:stCondLst>
                      <p:childTnLst>
                        <p:par>
                          <p:cTn id="4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4" name="chimes.wav"/>
                                  </p:tgtEl>
                                </p:cMediaNode>
                              </p:audio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What is persuasion?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5040" indent="-280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 means of convincing peo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o buy a certain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o believe something or act in a certain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o agree with a point of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indefinite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dur="indefinite" fill="hold">
                      <p:stCondLst>
                        <p:cond delay="indefinite"/>
                      </p:stCondLst>
                      <p:childTnLst>
                        <p:par>
                          <p:cTn id="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dur="indefinite" fill="hold">
                      <p:stCondLst>
                        <p:cond delay="indefinite"/>
                      </p:stCondLst>
                      <p:childTnLst>
                        <p:par>
                          <p:cTn id="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3581280" y="2286000"/>
            <a:ext cx="2971800" cy="27907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6705720" y="1219320"/>
            <a:ext cx="1904760" cy="1143000"/>
          </a:xfrm>
          <a:prstGeom prst="wedgeRoundRectCallout">
            <a:avLst>
              <a:gd name="adj1" fmla="val -75814"/>
              <a:gd name="adj2" fmla="val 93046"/>
              <a:gd name="adj3" fmla="val 16667"/>
            </a:avLst>
          </a:prstGeom>
          <a:solidFill>
            <a:srgbClr val="3891a7"/>
          </a:solidFill>
          <a:ln cap="sq"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Audie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934320" y="4343400"/>
            <a:ext cx="1904760" cy="1143000"/>
          </a:xfrm>
          <a:prstGeom prst="wedgeRoundRectCallout">
            <a:avLst>
              <a:gd name="adj1" fmla="val -93268"/>
              <a:gd name="adj2" fmla="val 15953"/>
              <a:gd name="adj3" fmla="val 16667"/>
            </a:avLst>
          </a:prstGeom>
          <a:solidFill>
            <a:srgbClr val="3891a7"/>
          </a:solidFill>
          <a:ln cap="sq"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Persuasive techniqu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676520" y="2743200"/>
            <a:ext cx="1904760" cy="1143000"/>
          </a:xfrm>
          <a:prstGeom prst="wedgeRoundRectCallout">
            <a:avLst>
              <a:gd name="adj1" fmla="val 44620"/>
              <a:gd name="adj2" fmla="val 114861"/>
              <a:gd name="adj3" fmla="val 16667"/>
            </a:avLst>
          </a:prstGeom>
          <a:solidFill>
            <a:srgbClr val="3891a7"/>
          </a:solidFill>
          <a:ln cap="sq"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Purpo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dur="indefinite" fill="hold">
                      <p:stCondLst>
                        <p:cond delay="indefinite"/>
                      </p:stCondLst>
                      <p:childTnLst>
                        <p:par>
                          <p:cTn id="4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dur="indefinite" fill="hold">
                      <p:stCondLst>
                        <p:cond delay="indefinite"/>
                      </p:stCondLst>
                      <p:childTnLst>
                        <p:par>
                          <p:cTn id="4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3" name="chimes.wav"/>
                                  </p:tgtEl>
                                </p:cMediaNode>
                              </p:audio>
                            </p:childTnLst>
                          </p:cTn>
                        </p:par>
                      </p:childTnLst>
                    </p:cTn>
                  </p:par>
                  <p:par>
                    <p:cTn id="430" dur="indefinite" fill="hold">
                      <p:stCondLst>
                        <p:cond delay="indefinite"/>
                      </p:stCondLst>
                      <p:childTnLst>
                        <p:par>
                          <p:cTn id="4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4" name="chimes.wav"/>
                                  </p:tgtEl>
                                </p:cMediaNode>
                              </p:audio>
                            </p:childTnLst>
                          </p:cTn>
                        </p:par>
                      </p:childTnLst>
                    </p:cTn>
                  </p:par>
                  <p:par>
                    <p:cTn id="436" dur="indefinite" fill="hold">
                      <p:stCondLst>
                        <p:cond delay="indefinite"/>
                      </p:stCondLst>
                      <p:childTnLst>
                        <p:par>
                          <p:cTn id="4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5" name="chimes.wav"/>
                                  </p:tgtEl>
                                </p:cMediaNode>
                              </p:audio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" descr=""/>
          <p:cNvPicPr/>
          <p:nvPr/>
        </p:nvPicPr>
        <p:blipFill>
          <a:blip r:embed="rId2"/>
          <a:stretch/>
        </p:blipFill>
        <p:spPr>
          <a:xfrm>
            <a:off x="3276720" y="1660680"/>
            <a:ext cx="3657600" cy="477036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6553080" y="1600200"/>
            <a:ext cx="1905120" cy="1143000"/>
          </a:xfrm>
          <a:prstGeom prst="wedgeRoundRectCallout">
            <a:avLst>
              <a:gd name="adj1" fmla="val -75814"/>
              <a:gd name="adj2" fmla="val 93046"/>
              <a:gd name="adj3" fmla="val 16667"/>
            </a:avLst>
          </a:prstGeom>
          <a:solidFill>
            <a:srgbClr val="3891a7"/>
          </a:solidFill>
          <a:ln cap="sq"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Audie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781680" y="3657600"/>
            <a:ext cx="1905120" cy="1447920"/>
          </a:xfrm>
          <a:prstGeom prst="wedgeRoundRectCallout">
            <a:avLst>
              <a:gd name="adj1" fmla="val -88032"/>
              <a:gd name="adj2" fmla="val -25138"/>
              <a:gd name="adj3" fmla="val 16667"/>
            </a:avLst>
          </a:prstGeom>
          <a:solidFill>
            <a:srgbClr val="3891a7"/>
          </a:solidFill>
          <a:ln cap="sq"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Persuasive techniqu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dur="indefinite" fill="hold">
                      <p:stCondLst>
                        <p:cond delay="indefinite"/>
                      </p:stCondLst>
                      <p:childTnLst>
                        <p:par>
                          <p:cTn id="4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dur="indefinite" fill="hold">
                      <p:stCondLst>
                        <p:cond delay="indefinite"/>
                      </p:stCondLst>
                      <p:childTnLst>
                        <p:par>
                          <p:cTn id="4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3" name="chimes.wav"/>
                                  </p:tgtEl>
                                </p:cMediaNode>
                              </p:audio>
                            </p:childTnLst>
                          </p:cTn>
                        </p:par>
                      </p:childTnLst>
                    </p:cTn>
                  </p:par>
                  <p:par>
                    <p:cTn id="455" dur="indefinite" fill="hold">
                      <p:stCondLst>
                        <p:cond delay="indefinite"/>
                      </p:stCondLst>
                      <p:childTnLst>
                        <p:par>
                          <p:cTn id="4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4" name="chimes.wav"/>
                                  </p:tgtEl>
                                </p:cMediaNode>
                              </p:audio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Relevant fac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dvertisers spend about $200 billion a year on TV advertis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average cost for Super Bowl ads is $2.6 million per 30 second sp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average American watches about 24,000 TV commercials a ye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ttp://television-commercial.ne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dur="indefinite" fill="hold">
                      <p:stCondLst>
                        <p:cond delay="indefinite"/>
                      </p:stCondLst>
                      <p:childTnLst>
                        <p:par>
                          <p:cTn id="4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dur="indefinite" fill="hold">
                      <p:stCondLst>
                        <p:cond delay="indefinite"/>
                      </p:stCondLst>
                      <p:childTnLst>
                        <p:par>
                          <p:cTn id="4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2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dur="indefinite" fill="hold">
                      <p:stCondLst>
                        <p:cond delay="indefinite"/>
                      </p:stCondLst>
                      <p:childTnLst>
                        <p:par>
                          <p:cTn id="4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7" dur="5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dur="indefinite" fill="hold">
                      <p:stCondLst>
                        <p:cond delay="indefinite"/>
                      </p:stCondLst>
                      <p:childTnLst>
                        <p:par>
                          <p:cTn id="4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2" dur="5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dur="indefinite" fill="hold">
                      <p:stCondLst>
                        <p:cond delay="indefinite"/>
                      </p:stCondLst>
                      <p:childTnLst>
                        <p:par>
                          <p:cTn id="4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7" dur="500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Making Connection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at is your favorite jingle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at slogan for a product do you find yourself say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at TV commercial has influenced you to make a purcha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nce RGIII shops at HEB, does that mean we should to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Reflection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5040" indent="-280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ersuasion is all around you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 addition to TV commercials, where else do you see persuasion all around you?  Is that persuasion influencing you or your family in any way?  Expl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Common persuasive techniques often used in advertising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log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pet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andwag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estimoni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motional App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xpert Opi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791320" y="1828800"/>
            <a:ext cx="2819160" cy="2514600"/>
          </a:xfrm>
          <a:prstGeom prst="wedgeRoundRectCallout">
            <a:avLst>
              <a:gd name="adj1" fmla="val -91435"/>
              <a:gd name="adj2" fmla="val -8856"/>
              <a:gd name="adj3" fmla="val 16667"/>
            </a:avLst>
          </a:prstGeom>
          <a:solidFill>
            <a:srgbClr val="3891a7"/>
          </a:solidFill>
          <a:ln cap="sq"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Purpo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dur="indefinite" fill="hold">
                      <p:stCondLst>
                        <p:cond delay="indefinite"/>
                      </p:stCondLst>
                      <p:childTnLst>
                        <p:par>
                          <p:cTn id="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dur="indefinite" fill="hold">
                      <p:stCondLst>
                        <p:cond delay="indefinite"/>
                      </p:stCondLst>
                      <p:childTnLst>
                        <p:par>
                          <p:cTn id="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dur="indefinite" fill="hold">
                      <p:stCondLst>
                        <p:cond delay="indefinite"/>
                      </p:stCondLst>
                      <p:childTnLst>
                        <p:par>
                          <p:cTn id="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dur="indefinite" fill="hold">
                      <p:stCondLst>
                        <p:cond delay="indefinite"/>
                      </p:stCondLst>
                      <p:childTnLst>
                        <p:par>
                          <p:cTn id="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dur="indefinite" fill="hold">
                      <p:stCondLst>
                        <p:cond delay="indefinite"/>
                      </p:stCondLst>
                      <p:childTnLst>
                        <p:par>
                          <p:cTn id="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logan: “Can you hear me now?”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434960" y="1447920"/>
            <a:ext cx="74995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5040" indent="-280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 catchy phrase or statement often used to sell a service or a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828800" y="2514600"/>
            <a:ext cx="3389400" cy="279720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3"/>
          <a:stretch/>
        </p:blipFill>
        <p:spPr>
          <a:xfrm>
            <a:off x="5257800" y="4267080"/>
            <a:ext cx="3541680" cy="2324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dur="indefinite" fill="hold">
                      <p:stCondLst>
                        <p:cond delay="indefinite"/>
                      </p:stCondLst>
                      <p:childTnLst>
                        <p:par>
                          <p:cTn id="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dur="indefinite" fill="hold">
                      <p:stCondLst>
                        <p:cond delay="indefinite"/>
                      </p:stCondLst>
                      <p:childTnLst>
                        <p:par>
                          <p:cTn id="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dur="indefinite" fill="hold">
                      <p:stCondLst>
                        <p:cond delay="indefinite"/>
                      </p:stCondLst>
                      <p:childTnLst>
                        <p:par>
                          <p:cTn id="1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4" name="chimes.wav"/>
                                  </p:tgtEl>
                                </p:cMediaNode>
                              </p:audio>
                            </p:childTnLst>
                          </p:cTn>
                        </p:par>
                      </p:childTnLst>
                    </p:cTn>
                  </p:par>
                  <p:par>
                    <p:cTn id="106" dur="indefinite" fill="hold">
                      <p:stCondLst>
                        <p:cond delay="indefinite"/>
                      </p:stCondLst>
                      <p:childTnLst>
                        <p:par>
                          <p:cTn id="1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5" name="chimes.wav"/>
                                  </p:tgtEl>
                                </p:cMediaNode>
                              </p:audio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434960" y="304920"/>
            <a:ext cx="749952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Repetition: </a:t>
            </a:r>
            <a:br>
              <a:rPr sz="3900"/>
            </a:br>
            <a:r>
              <a:rPr b="0" lang="en-US" sz="2800" spc="-1" strike="noStrike">
                <a:solidFill>
                  <a:srgbClr val="572314"/>
                </a:solidFill>
                <a:latin typeface="Gill Sans MT"/>
              </a:rPr>
              <a:t>The name of a product is repeated many times</a:t>
            </a:r>
            <a:br>
              <a:rPr sz="39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295280" y="1295280"/>
            <a:ext cx="75438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09480" y="2362320"/>
            <a:ext cx="3048120" cy="304776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2819520" y="3352680"/>
            <a:ext cx="3047760" cy="312444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4"/>
          <a:stretch/>
        </p:blipFill>
        <p:spPr>
          <a:xfrm>
            <a:off x="5486400" y="3809880"/>
            <a:ext cx="3048120" cy="304812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1828800" y="2286000"/>
            <a:ext cx="2057400" cy="990720"/>
          </a:xfrm>
          <a:prstGeom prst="wedgeRoundRectCallout">
            <a:avLst>
              <a:gd name="adj1" fmla="val -72861"/>
              <a:gd name="adj2" fmla="val 38699"/>
              <a:gd name="adj3" fmla="val 16667"/>
            </a:avLst>
          </a:prstGeom>
          <a:solidFill>
            <a:srgbClr val="3891a7"/>
          </a:solidFill>
          <a:ln cap="sq"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HEAD ON  Apply directly to the fore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267080" y="2895480"/>
            <a:ext cx="2057400" cy="1067040"/>
          </a:xfrm>
          <a:prstGeom prst="wedgeRoundRectCallout">
            <a:avLst>
              <a:gd name="adj1" fmla="val -72861"/>
              <a:gd name="adj2" fmla="val 38699"/>
              <a:gd name="adj3" fmla="val 16667"/>
            </a:avLst>
          </a:prstGeom>
          <a:solidFill>
            <a:srgbClr val="3891a7"/>
          </a:solidFill>
          <a:ln cap="sq"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HEAD ON  Apply directly to the fore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781680" y="3581280"/>
            <a:ext cx="2057400" cy="1067040"/>
          </a:xfrm>
          <a:prstGeom prst="wedgeRoundRectCallout">
            <a:avLst>
              <a:gd name="adj1" fmla="val -72861"/>
              <a:gd name="adj2" fmla="val 38699"/>
              <a:gd name="adj3" fmla="val 16667"/>
            </a:avLst>
          </a:prstGeom>
          <a:solidFill>
            <a:srgbClr val="3891a7"/>
          </a:solidFill>
          <a:ln cap="sq"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HEAD ON  Apply directly to the fore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dur="indefinite" fill="hold">
                      <p:stCondLst>
                        <p:cond delay="indefinite"/>
                      </p:stCondLst>
                      <p:childTnLst>
                        <p:par>
                          <p:cTn id="1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dur="indefinite" fill="hold">
                      <p:stCondLst>
                        <p:cond delay="indefinite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dur="indefinite" fill="hold">
                      <p:stCondLst>
                        <p:cond delay="indefinite"/>
                      </p:stCondLst>
                      <p:childTnLst>
                        <p:par>
                          <p:cTn id="1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5" name="laser.wav"/>
                                  </p:tgtEl>
                                </p:cMediaNode>
                              </p:audio>
                            </p:childTnLst>
                          </p:cTn>
                        </p:par>
                      </p:childTnLst>
                    </p:cTn>
                  </p:par>
                  <p:par>
                    <p:cTn id="131" dur="indefinite" fill="hold">
                      <p:stCondLst>
                        <p:cond delay="indefinite"/>
                      </p:stCondLst>
                      <p:childTnLst>
                        <p:par>
                          <p:cTn id="1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dur="indefinite" fill="hold">
                      <p:stCondLst>
                        <p:cond delay="indefinite"/>
                      </p:stCondLst>
                      <p:childTnLst>
                        <p:par>
                          <p:cTn id="1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6" name="laser.wav"/>
                                  </p:tgtEl>
                                </p:cMediaNode>
                              </p:audio>
                            </p:childTnLst>
                          </p:cTn>
                        </p:par>
                      </p:childTnLst>
                    </p:cTn>
                  </p:par>
                  <p:par>
                    <p:cTn id="143" dur="indefinite" fill="hold">
                      <p:stCondLst>
                        <p:cond delay="indefinite"/>
                      </p:stCondLst>
                      <p:childTnLst>
                        <p:par>
                          <p:cTn id="1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dur="indefinite" fill="hold">
                      <p:stCondLst>
                        <p:cond delay="indefinite"/>
                      </p:stCondLst>
                      <p:childTnLst>
                        <p:par>
                          <p:cTn id="1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7" name="laser.wav"/>
                                  </p:tgtEl>
                                </p:cMediaNode>
                              </p:audio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Bandwagon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5040" indent="-280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 statement suggesting that everyone is using a specific product, so you should to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2971800" y="2895480"/>
            <a:ext cx="5154480" cy="236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dur="indefinite" fill="hold">
                      <p:stCondLst>
                        <p:cond delay="indefinite"/>
                      </p:stCondLst>
                      <p:childTnLst>
                        <p:par>
                          <p:cTn id="1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dur="indefinite" fill="hold">
                      <p:stCondLst>
                        <p:cond delay="indefinite"/>
                      </p:stCondLst>
                      <p:childTnLst>
                        <p:par>
                          <p:cTn id="1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dur="indefinite" fill="hold">
                      <p:stCondLst>
                        <p:cond delay="indefinite"/>
                      </p:stCondLst>
                      <p:childTnLst>
                        <p:par>
                          <p:cTn id="1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3" name="chimes.wav"/>
                                  </p:tgtEl>
                                </p:cMediaNode>
                              </p:audio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Red Herring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096560" y="1447560"/>
            <a:ext cx="783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547560"/>
                <a:tab algn="l" pos="1461960"/>
                <a:tab algn="l" pos="2376360"/>
                <a:tab algn="l" pos="3290760"/>
                <a:tab algn="l" pos="4205160"/>
                <a:tab algn="l" pos="5119560"/>
                <a:tab algn="l" pos="6033960"/>
                <a:tab algn="l" pos="6948360"/>
                <a:tab algn="l" pos="7862760"/>
                <a:tab algn="l" pos="8777160"/>
                <a:tab algn="l" pos="96915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resents an irrelevant topic to divert attention away from the original issu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547560"/>
                <a:tab algn="l" pos="1461960"/>
                <a:tab algn="l" pos="2376360"/>
                <a:tab algn="l" pos="3290760"/>
                <a:tab algn="l" pos="4205160"/>
                <a:tab algn="l" pos="5119560"/>
                <a:tab algn="l" pos="6033960"/>
                <a:tab algn="l" pos="6948360"/>
                <a:tab algn="l" pos="7862760"/>
                <a:tab algn="l" pos="8777160"/>
                <a:tab algn="l" pos="96915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xample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547560"/>
                <a:tab algn="l" pos="1461960"/>
                <a:tab algn="l" pos="2376360"/>
                <a:tab algn="l" pos="3290760"/>
                <a:tab algn="l" pos="4205160"/>
                <a:tab algn="l" pos="5119560"/>
                <a:tab algn="l" pos="6033960"/>
                <a:tab algn="l" pos="6948360"/>
                <a:tab algn="l" pos="7862760"/>
                <a:tab algn="l" pos="8777160"/>
                <a:tab algn="l" pos="96915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other: It’s bedtime Jan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547560"/>
                <a:tab algn="l" pos="1461960"/>
                <a:tab algn="l" pos="2376360"/>
                <a:tab algn="l" pos="3290760"/>
                <a:tab algn="l" pos="4205160"/>
                <a:tab algn="l" pos="5119560"/>
                <a:tab algn="l" pos="6033960"/>
                <a:tab algn="l" pos="6948360"/>
                <a:tab algn="l" pos="7862760"/>
                <a:tab algn="l" pos="8777160"/>
                <a:tab algn="l" pos="96915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Jane: Mom, how do ants feed their babies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547560"/>
                <a:tab algn="l" pos="1461960"/>
                <a:tab algn="l" pos="2376360"/>
                <a:tab algn="l" pos="3290760"/>
                <a:tab algn="l" pos="4205160"/>
                <a:tab algn="l" pos="5119560"/>
                <a:tab algn="l" pos="6033960"/>
                <a:tab algn="l" pos="6948360"/>
                <a:tab algn="l" pos="7862760"/>
                <a:tab algn="l" pos="8777160"/>
                <a:tab algn="l" pos="96915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other: Don’t know dear. Close your eyes now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547560"/>
                <a:tab algn="l" pos="1461960"/>
                <a:tab algn="l" pos="2376360"/>
                <a:tab algn="l" pos="3290760"/>
                <a:tab algn="l" pos="4205160"/>
                <a:tab algn="l" pos="5119560"/>
                <a:tab algn="l" pos="6033960"/>
                <a:tab algn="l" pos="6948360"/>
                <a:tab algn="l" pos="7862760"/>
                <a:tab algn="l" pos="8777160"/>
                <a:tab algn="l" pos="96915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Jane: But mama, do ant babies cry when hungry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547560"/>
                <a:tab algn="l" pos="1461960"/>
                <a:tab algn="l" pos="2376360"/>
                <a:tab algn="l" pos="3290760"/>
                <a:tab algn="l" pos="4205160"/>
                <a:tab algn="l" pos="5119560"/>
                <a:tab algn="l" pos="6033960"/>
                <a:tab algn="l" pos="6948360"/>
                <a:tab algn="l" pos="7862760"/>
                <a:tab algn="l" pos="8777160"/>
                <a:tab algn="l" pos="96915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Jane uses it to keep from having to sleep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estimonia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5040" indent="-280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 well-known person supports a product or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2058840" y="2819520"/>
            <a:ext cx="5218200" cy="313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dur="indefinite" fill="hold">
                      <p:stCondLst>
                        <p:cond delay="indefinite"/>
                      </p:stCondLst>
                      <p:childTnLst>
                        <p:par>
                          <p:cTn id="1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dur="indefinite" fill="hold">
                      <p:stCondLst>
                        <p:cond delay="indefinite"/>
                      </p:stCondLst>
                      <p:childTnLst>
                        <p:par>
                          <p:cTn id="1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dur="indefinite" fill="hold">
                      <p:stCondLst>
                        <p:cond delay="indefinite"/>
                      </p:stCondLst>
                      <p:childTnLst>
                        <p:par>
                          <p:cTn id="1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3" name="whoosh.wav"/>
                                  </p:tgtEl>
                                </p:cMediaNode>
                              </p:audio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Emotional Appea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434960" y="1295280"/>
            <a:ext cx="74995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5040" indent="-280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 person is made to have strong feelings about a situation or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809880" y="2362320"/>
            <a:ext cx="2791080" cy="428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dur="indefinite" fill="hold">
                      <p:stCondLst>
                        <p:cond delay="indefinite"/>
                      </p:stCondLst>
                      <p:childTnLst>
                        <p:par>
                          <p:cTn id="1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dur="indefinite" fill="hold">
                      <p:stCondLst>
                        <p:cond delay="indefinite"/>
                      </p:stCondLst>
                      <p:childTnLst>
                        <p:par>
                          <p:cTn id="1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dur="indefinite" fill="hold">
                      <p:stCondLst>
                        <p:cond delay="indefinite"/>
                      </p:stCondLst>
                      <p:childTnLst>
                        <p:par>
                          <p:cTn id="2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3" name="wind.wav"/>
                                  </p:tgtEl>
                                </p:cMediaNode>
                              </p:audio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1T20:08:02Z</dcterms:created>
  <dc:creator>jbernhard</dc:creator>
  <dc:description/>
  <dc:language>en-US</dc:language>
  <cp:lastModifiedBy>jbernhard</cp:lastModifiedBy>
  <dcterms:modified xsi:type="dcterms:W3CDTF">2008-01-18T17:36:00Z</dcterms:modified>
  <cp:revision>20</cp:revision>
  <dc:subject/>
  <dc:title>Common Persuasive Techniques</dc:title>
</cp:coreProperties>
</file>